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F4C-CDA9-49D3-AE00-26B55979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DDE6-9A96-4C08-9E5B-259FC447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75D5-F7BE-451C-B9E9-C100DE39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1180-29D7-4653-A895-D035D91F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957E-7D06-4CA9-BBFF-7F0263CE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4123-79DE-4A1F-A83F-0BB8BA9F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43D0-84B2-4EC1-B2A3-F5C148CB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9C5B-CF98-4366-B3DD-1D45D168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A403-D4B7-4F6E-B54C-ACE34076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9797-AD6D-455B-9AC6-346ABF10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6540-5FD0-473B-93FD-9694B6FD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3498-867E-46CD-8306-7D387E07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5543-9316-4073-88B6-44B2553D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50DC-10C9-429F-A28F-E5B3892D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CC57-989C-4837-BE65-BD4BD2E8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8A50-3486-4296-8AA6-D2A46CBE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A0CA-BB55-4BDE-B6DA-C1AC6974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06E-ECE2-43D0-813E-A03A5E65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C947-4E6C-485B-B64B-B865DEA1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0A1B-560D-4816-A41E-8F3E7B09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9595-9D8C-435D-AC7D-4905F343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9A39-348E-4C93-9702-88D7C5BA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A63A-203D-4915-B55F-671FFA08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178A-55A8-4468-B479-EF541C3E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2557-536E-4C02-8940-DF80AAF8138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1FB5-C3D8-48C6-93D2-98CC1AD9F61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Moses’ Speeches On The Plains of Moab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mmary of Deuterono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uteronom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Law:  Going Over The Law Ag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Before Entering Into The Promised 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Before The Leadership Is Handed Over To Josh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ive Books of Mos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sis = Beginn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odus = Leaving Egyptian Bond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viticus = Rites of Priesth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s = Numbering Israel &amp; A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uteronomy =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iving or Rehearsal of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uteronomy Speech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Be Afraid; Remain Faithful – 1:1 – 4:40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hat God Has Done For Isra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ware Lest You Forget To Obey The Lord – 4:44 – 26:19 –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hat God Expects of Isra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"What God Will Do for Israel" (27:1--34:1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Key Issu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God Made Them Wander 40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riginal Agreement/ 10 Command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 Commandment – Ch.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’s Basics – ch.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urses of Disobedi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er Prophet to Come – ch.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sh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ath of Mo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ummary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att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riarc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l of Mo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lag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Egypt to Sin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Makes A Coven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Sinai To Kade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nd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The Plains of Moa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urney’s 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00:53:06Z</dcterms:created>
  <dc:creator>Terry W. Benton</dc:creator>
  <dc:description/>
  <dc:language>en-US</dc:language>
  <cp:lastModifiedBy>Terry W. Benton</cp:lastModifiedBy>
  <dcterms:modified xsi:type="dcterms:W3CDTF">2004-12-22T01:01:50Z</dcterms:modified>
  <cp:revision>1</cp:revision>
  <dc:subject/>
  <dc:title>Moses’ Speeches On The Plains of Moab</dc:title>
</cp:coreProperties>
</file>